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9372-2E73-4015-846A-9A9C1354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E19D-A935-45E5-930E-6026CE74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C5CD-817A-4A47-AFB7-623C59186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DF21-5045-486E-96F5-4A4FD8A11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56F0-0A9B-46FE-84EB-2D1BCE8B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75A1-1767-4835-B2B0-6572059B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E2AA-8F04-4FD3-8803-2E33D63F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33A1-D908-424D-865E-DE444DBE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F974-76E5-447D-A170-5F066A4C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9E93-2D32-4B91-B630-1B4F3742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0D31-0DD2-4D51-8686-EA861791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7F32-F268-4C03-961B-DD6B3A88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BB01-E8D8-4BA5-9CF3-6145EE19766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dingungen für die Anerkennung Nationaler Gesellschaften durch das IKR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rt. 4 der Statu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964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ichtung auf dem Gebiet eines unabhängigen Vertragsstaates der Genfer Abkom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einzige Nationale Gesellschaft in diesem Sta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erkennung durch die Regierung ihres Sta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enständigkeit, die Arbeit nach den Grundsätzen der Bewegung erlaub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tzung eines Namens und Schutzzeichens gemäß den Genfer Abkommen und ihren Zusatzprotokol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ation, die die Erfüllung der in den Statuten festgelegten Aufgaben ermöglic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ätigkeit im ganzen Staatsgebi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ine Diskriminierung bei der Aufnahme freiwilliger Mitglieder und Mitarbei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chtung der Statuten und Zusammenarbeit mit den Organisationen der Bewegu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htung der Grundsätze der Bewegung und des humanitären Völkerrech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CF00-B8A4-4056-B4A0-0952F8D42D8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184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zahl der anerkannten Nationalen Gesellscha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79280" y="1413000"/>
          <a:ext cx="8713800" cy="49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13800" cy="49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7D36-6F86-47DC-AB39-D6D83A0D52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6T18:50:40Z</dcterms:created>
  <dc:creator>Iris</dc:creator>
  <dc:description/>
  <dc:language>en-US</dc:language>
  <cp:lastModifiedBy>Iris</cp:lastModifiedBy>
  <dcterms:modified xsi:type="dcterms:W3CDTF">2006-08-29T01:01:02Z</dcterms:modified>
  <cp:revision>19</cp:revision>
  <dc:subject/>
  <dc:title>Anerkennungsbedingungen für Nationale Gesellschaften</dc:title>
</cp:coreProperties>
</file>