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CF6-E0CA-4FBA-A1C0-CE1017E3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09D-B6D1-4581-BC2D-3F7A5E70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F48-629E-4C6F-BB54-349E4B99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6F1-F053-4513-9085-4FD56010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F15-598B-48A9-A00D-5B1F883D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055-3BB4-42F0-B47B-C3F1658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DA9-12A7-424B-92A4-1A2921E2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F02-AA00-44E7-A5FD-0E986B29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6EA-DDD0-41D1-B110-901237B3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744-E108-4965-B219-7D3EB32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EE4-40FB-4EB8-A932-25D79CB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670-2745-4DCE-B1C0-3CF2462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0706-D492-4067-948E-F2A88D7D6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erkannte Wahrzei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z. Zt. nicht verwend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603600" cy="1803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1939680" cy="180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77080" y="2421000"/>
            <a:ext cx="187488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812-15D2-4108-B406-90E921113D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Wahrzeichen als Schutzzei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lösung eines Nichtangriffs-Reflexes bei Kombatt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alt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oß und weithin sichtbar, ohne Umrandungen, Schriftzüge und sonst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wendung in Konfliktz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anitätsdienste der Streit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erkannte Zivilkrankenhäuser und zivile Sanitätsein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ersonal und Material Nationaler Gesellschaften und anderer freiwill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fsgesellschaften, die von ihrer Regierung ordnungsgemäß anerkannt und 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tützung der Sanitätsdienste der Streitkräfte ermächtigt w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wendung in Friedensz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anitätseinheiten und Transportmittel der Nationalen Gesellschaften, 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wendung zu Sanitätszwecken im Falle bewaffneter Konflikte festgelegt 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önnen mit dem Einverständnis der Behörden bereits in Friedenszeiten 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 Schutzzeichen versehen werd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868-6687-4A53-B307-E925FFF76E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Wahrzeichen als Kennzei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bindung von Personen und Objekten mit der Internationa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kreuz- und Rothalbmondbeweg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talt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klein, mit Umrandung, Schrift und anderen Ergänz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gemäß Zusatzprotokoll III können Nationale Gesellschaften, die 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en Kristall als Wahrzeichen nutzen, für Kennzeichnungszwe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s oder eine Kombination der anderen anerkannten Wahr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der auch ein bisher effektiv von einem Vertragsstaat genutztes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 anderen Vertragsparteien sowie dem IKRK mitgeteiltes 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den Roten Kristall einfüg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ndung in Konfliktz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sschließlich die Nationalen Gesellschaft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ndung in Friedensz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Nationale Gesell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mit deren Zustimmung und in Übereinstimmung mit dem nation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t auch Ambulanzen und unentgeltliche Hilfsposten von D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19B-0ECF-4A08-B8AB-B83FDB1B71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14:39:54Z</dcterms:created>
  <dc:creator>Iris</dc:creator>
  <dc:description/>
  <dc:language>en-US</dc:language>
  <cp:lastModifiedBy>messersm</cp:lastModifiedBy>
  <dcterms:modified xsi:type="dcterms:W3CDTF">2006-11-20T11:57:03Z</dcterms:modified>
  <cp:revision>15</cp:revision>
  <dc:subject/>
  <dc:title>Das Wahrzeichen als Schutzzeichen</dc:title>
</cp:coreProperties>
</file>