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086-E70C-4E71-A56D-7EF53E9E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E369-BAEA-42C3-81FE-50A63C0C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D53A-5BB5-4155-844A-BCB9A6F3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92D-3CE4-4BA7-9EE0-D783B096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7B2F-DFB3-435C-A8FF-CE8A0D17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05B5-0418-4128-B9B9-22F07357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954-087C-4DF1-AAA7-25D7BF11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992-FDAB-48DC-9B9F-516AE389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BEE-269C-4044-A932-90D8F81E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E32-0C6D-454A-8A0B-5B44BD1D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DF0-7A36-4E94-8BEC-547F63BE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601-5507-446A-9BDA-CA12C6A4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7FDC-F1A6-46FB-8E41-EA37AAD6C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 internationale Strafgerichtsh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. Juli 1998: Annahme des Statuts durch diplomatische Konferenz in 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. Juli 2002: Inkrafttr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 August 2006: 100 Vertragsstaaten (Ratifikation der BRD am 11. Dezember 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uständig für folgende Verbre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ölkerm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brechen gegen die Menschlich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Kriegsverbre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brechen der Aggression, sofern es von den Vertragsstaaten definiert und 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sbezügliche Verfahren festgelegt wird (frühestens 7 Jahre nach Inkrafttreten 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ts mögli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 Verhältnis zu Gerichten der Vertragsstaaten komplementär zuständig, d. h. insbesondere, wenn Staaten zur Verfolgung nicht willens und nicht in der Lage s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nn tätig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 allen Fällen der Befassung durch den UN-Sicherheitsrat auf Basis des Kapitels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r UN-Char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 Fällen der Unterbreitung von Situationen durch Vertragsstaaten oder des Handel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 Anklägers aus eigenem Antrieb nur, wenn der Staat auf dessen Hoheitsgebiet 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liche Verhalten stattgefunden hat und/oder der Staat, dessen Staatsangehör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beschuldigte Person besitzt, Vertragsstaat des Abkommens ist oder wenn 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htvertragsstaat die Gerichtsbarkeit im konkreten Fall anerken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nschränkung: Gemäß Artikel 124 des Statuts können Staaten bei ihrem Beitritt die Zuständigkeit des Strafgerichtshofes für Kriegsverbrechen, die durch ihre Staatsangehörigen oder auf ihrem Territorium begangen wurden, für die Dauer von 7 Jahren ausset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46D-5E67-4C12-B66C-F5AEBEC892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fangene in bewaffneten Konflik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4316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e bewaffnete Konflik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iegsgefangene (GA II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schützte Zivilpersonen in Gefangenschaft (GA I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ternie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nn und solange für die Sicherh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r Gewahrsamsmacht zwin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wendig oder bei minder schw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ftaten gegen eine Besatzungsma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reiheitsstrafe aufgr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frechtlicher Verurteil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ßerdem Mindestgarantien für alle Personen, denen während eines internationalen bewaffneten Konflikts die Freiheit entzogen wird (Art. 75 ZP 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t des IKRK, Kriegsgefangene und alle geschützten Zivilpersonen in Gefangenschaft zu besuchen und ohne Zeugen mit ihnen zu sprechen (Art. 126 GA III, 143 GA I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981000"/>
            <a:ext cx="4244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cht-internationale bewaffnete Konflik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in Kriegsgefangenen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ter allen Umständen menschliche Behandlung aller Personen, die nicht oder nicht mehr an Feindseligkeiten teilnehmen (gem. Art. 3 der G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nn anwendbar: ZP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indestgarantien für alle, die ni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der nicht mehr direkt 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indseligkeiten teilnehmen (Art.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indestgarantien für alle, denen 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usammenhang mit dem Konflikt d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iheit entzogen wurde (Art.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orschriften für Strafverfahren we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ten im Zusammenhang mit d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waffneten Konflikt (Art.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tivrecht des IKRK zum Schutz von Gefangenen (gem. Art. 3 der GA, Art. 5.2 (d) der Statute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38F-480C-45E4-805E-7FF1967B08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ror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sher gilt kein allgemeines internationales Abkommen zum Terrorism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Falle eines bewaffneten Konflikts ist das humanitäre Völkerrecht aber voll anwendb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Anwendung oder Androhung von Gewalt mit dem hauptsächlichen Ziel, Schecken unter der Zivilbevölkerung zu verbreiten, ist ausdrücklich verboten (Art. 51 Absatz 2 ZP I, Art.13 Absatz 2 ZP I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mpfhandlungen mit terroristischem Charakter sind auch von den allgemeinen Vorschriften insb. zum Schutz der Zivilbevölkerung vor Angriffen erfas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ch Terroristen sind durch das humanitäre Völkerrecht geschützt: entweder als Kombattanten oder als Zivilperso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d sie Kombattanten, steht ihnen der Kriegsgefangenenstatus und damit der Schutz von GA III und ggf. ZP I z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d sie Zivilpersonen, sind sie durch GA IV, ggf. ZP I und im nicht-internationalen bewaffneten Konflikt ggf. ZP II geschütz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721-8BF3-44E1-9E7C-8089D64522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17:57:20Z</dcterms:created>
  <dc:creator>Iris</dc:creator>
  <dc:description/>
  <dc:language>en-US</dc:language>
  <cp:lastModifiedBy>Iris</cp:lastModifiedBy>
  <dcterms:modified xsi:type="dcterms:W3CDTF">2006-09-24T22:41:10Z</dcterms:modified>
  <cp:revision>8</cp:revision>
  <dc:subject/>
  <dc:title>Der internationale Strafgerichtshof</dc:title>
</cp:coreProperties>
</file>