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EAB1-8019-41B2-B6EA-7C296ECDE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8520-AF16-49E7-B14D-A82515F3C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3717-9A3E-4C25-8AEC-984A1E11A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43C0-80FE-4ADD-A00F-CE7A228E4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DE9C-43E2-455A-8541-D541B3061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A282-EBBB-4AA0-8D55-C66F140E4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5DA2-A268-464D-986B-E29A42C16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B1F7-78AB-4FC1-9A26-AB5CE8214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9AD5-B309-4169-AE30-9AA6ED40D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E725-35EB-48F9-9D01-051C8580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755E-3669-4485-81A7-8393ED39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9D8A-DBC7-4010-BD99-EB2A62FF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45813-A70B-4863-AB1E-DA1298B6F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Kampagnen: Aktivitätenspekt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wusstseinsbildung der breiten Öffentlichkeit (Plakate, Inserate, Publikationen, Videos, CD-Roms, Ausstellungen, Fernseh- und Radiospots)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edienarbeit (Pressemitteilungen, Pressekonferenzen, Presseseminare und Kontakte mit Medienvertretern)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einflussung der Entscheidungsträger zur Unterzeichnung entsprechender Verträge und Umsetzung von Gesetzesvorhaben (Vorträge, Seminare und Treffen mit militärischen Sachverständigen und führenden Politikern sowie Mitarbeitern in den relevanten Ministerien)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terstützung weltweiter Forschungstätigkeiten zur Aufdeckung von Hintergründen und Zusammenhäng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örderung regionaler Initiativen und Zusammenarbeit mit anderen Organisationen, die sich dem gleichen Anliegen widmen,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rekte Arbeit bzw. Unterstützung für die Op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3506-B4AE-428F-A1D3-F678244B2C1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ampagne gegen Antipersonenmi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3640" y="765000"/>
            <a:ext cx="856908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wussteinsbildung und Information der breiten Öffentlichkeit in aller Welt über die Minenthemati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örderung nationaler und regionaler Initiativen zur Minenproblemati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tützung minenbezogener Forschungstätigkeiten (medizinische Fallstudien, statistische Auswertungen, Hintergrundrecherchen u. a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einflussung von Entscheidungsträgern zur Umsetzung und Ratifizierung des „Ottawa-Vertrages“ sowie des revidierten II. Protokolls zum Rahmenübereinkommen über bestimmte konventionelle Waffen („Minenübereinkommen“) durch möglichst viele, v.a. auch minenproduzierende Staa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nenaufklärung und ggf. Kooperation mit Organisationen zur Minenräumung in betroffenen Ländern, was Information und Logistik betrif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habilitationsprogramme für Minenopfer (Orthopädiezentren u.a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57440" y="3860640"/>
            <a:ext cx="3743280" cy="248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A766-CD93-41E8-9953-5451687E5C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ampagne gegen Kindersold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23640" y="765000"/>
            <a:ext cx="856908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wussteinsbildung und Information der breiten Öffentlichkeit in aller Welt über die Problematik der Kindersolda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tausch mit Experten, die sich der Untersuchung der psychosozialen Rehabilitation von Kindersoldaten und anderer damit in Zusammenhang stehender Themen widm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operation mit Organisationen, die sich ebenfalls um die Verwirklichung der Rechte von Kindern bemüh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einflussung von Entscheidungsträgern zur Ratifizierung und Umsetzung des Fakultativprotokolls zur Kinderrechtskonvention, mit dem das Prinzip der Nicht-(Zwangs)-Rekrutierung und Nicht-Teilnahme von Kindern unter 18 Jahren an bewaffneten Konflikten durchgesetzt werden soll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tützung von Staaten bei der Umsetzung nationaler Gesetzgebungen mit derselben Absi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chführung von Bildungs- und Rehabilitationsprogrammen für von Konflikten betroffene Ki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594240" y="3753000"/>
            <a:ext cx="1904760" cy="284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7738-E427-490B-92E3-6556D0B6B9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1T05:51:01Z</dcterms:created>
  <dc:creator>Iris</dc:creator>
  <dc:description/>
  <dc:language>en-US</dc:language>
  <cp:lastModifiedBy>Iris</cp:lastModifiedBy>
  <dcterms:modified xsi:type="dcterms:W3CDTF">2006-08-29T17:50:56Z</dcterms:modified>
  <cp:revision>8</cp:revision>
  <dc:subject/>
  <dc:title>Kampagnen: Aktivitätenspektrum</dc:title>
</cp:coreProperties>
</file>