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E7C-BE5C-4AC6-A3CE-17B80F0C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6CF-20E3-4870-946E-BD9DF9F7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C8D-4ECD-4428-91D7-300E01C3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BC0-EEE7-4041-B2A1-FE08E0F1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EB1-CFE5-4970-BA38-F6E94496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C30-6F9D-43A9-A4B3-B98E63BA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87C-32B3-429E-8E67-5E3835B1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C32-FAF8-481D-8DC1-A1045139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3C9-B586-4C63-9E2C-5EA11F20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246-E585-4485-A946-16F53A2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87D-D061-4528-9C1B-E925D344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AC2-0AC5-4B5E-AE26-6280FBB8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ACAE-6EB5-42BD-8391-13C3347D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23360"/>
            <a:ext cx="806472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kte der Verbreitungs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über das humanitäre Völkerrecht, die Rotkreuzgrundsätze sowie die Grundlagen der Internationalen Rotkreuz- und Rothalbmondbewe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treten für das humanitäre Völkerrecht, seine Durchsetzung und Weiter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mittlung der Bedeutung des humanitären Völkerrechts und der Rotkreuzgrundsätze für die praktische Arbeit und das persönliche Ver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extbezogene Öffentlichkeitsarbeit für die Anliegen des Roten Kreu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DBF-D769-402D-9F25-CDCB305CF2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äger der Verbreitungs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ragsstaaten der Genfer Abko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es Komitee vom Roten Kre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e Rotkreuz- und Rothalbmondgesellscha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e Föderation der Rotkreuz- und Rothalbmondgesellscha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6A1-D8EA-40EB-B114-460BF8939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ressaten der Verbreitungs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glieder der Internationalen Rotkreuz- und Rothalbmondbewe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ellschaftliche und politische Entscheidungsträ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itkräfte und Poliz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ristische 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zinische 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üler und Stu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en und breite Öffent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20A-E55D-4C7E-A5CE-8A10063F6D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7960" y="488520"/>
            <a:ext cx="77187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htsgrundlagen der Verbreitungs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0680" y="1484280"/>
            <a:ext cx="8113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fer Abkommen vom 12. August 1949 und Zusatzprotokolle I un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Art. 47 GA I, Art. 48 GA II, Art. 127 I GA III, Art. 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 IV, Art. 83 ZP I, Art. 19 ZP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ten der Internationalen Rotkreuz- und Rothalbmondbewe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Art. 3 II: Verbreitung durch Nationale Gesellscha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Art. 5 II a, c, f, g: Verbreitung durch das IK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Art. 6 IV j: Verbreitung durch die Inter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deration der Rotkreuz-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thalbmondgesellscha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atzung des DRK i.d.F. vom 12. November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§ 2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EB9-B6EA-447A-B85B-19BD9BEA96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2:55:47Z</dcterms:created>
  <dc:creator>Iris</dc:creator>
  <dc:description/>
  <dc:language>en-US</dc:language>
  <cp:lastModifiedBy>messersm</cp:lastModifiedBy>
  <dcterms:modified xsi:type="dcterms:W3CDTF">2006-11-20T10:32:31Z</dcterms:modified>
  <cp:revision>16</cp:revision>
  <dc:subject/>
  <dc:title>Aspekte der Verbreitungsarbeit</dc:title>
</cp:coreProperties>
</file>