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B67-6DD7-41F4-8965-FC1E5E4F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FD9-BE88-4DB9-A7CB-5E901CF9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6A0-CF1E-4327-8A21-6BFB0ED5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F55-DE3E-4530-8B58-D030EEF3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655-53EF-4567-9BFD-B14D5B43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FDE-3C1B-4F01-B356-9C4E2C99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7A6-5360-42C6-B736-BD23721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7A4-8884-457F-9C5D-62CF581B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168-E387-492A-B2A0-EE000E82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35A-94B5-4F96-92D2-16D2CB1B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A2D-BD13-42A8-B069-AD7B5B7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7F5-BC66-487E-A31F-F221DD7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269B-0725-402B-8EEA-4765B58D6B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 Dunant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828 – 19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46240" y="1600200"/>
            <a:ext cx="32497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901-E088-46FA-BFA6-FEEE38A077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diplomatische Konferenz von 1864 zur Genfer Konvention zur Verbesserung des Loses der Verwundeten bei den im Felde stehenden He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6320" y="1731960"/>
            <a:ext cx="7753320" cy="46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96D-A9FC-4137-B2C0-878A3CE086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28. Internationale Rotkreuz- und Rothalbmondkonferenz in Genf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5480" y="1193760"/>
            <a:ext cx="7346880" cy="49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0F8-A376-45A6-8280-4FDF2D0CE3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2:14:57Z</dcterms:created>
  <dc:creator>Iris</dc:creator>
  <dc:description/>
  <dc:language>en-US</dc:language>
  <cp:lastModifiedBy>Iris</cp:lastModifiedBy>
  <dcterms:modified xsi:type="dcterms:W3CDTF">2006-08-29T00:55:16Z</dcterms:modified>
  <cp:revision>8</cp:revision>
  <dc:subject/>
  <dc:title>Folie 1</dc:title>
</cp:coreProperties>
</file>